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E82-E2F1-4F42-8807-747CB64C6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132-405A-46A8-8689-61E18AF3B6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B9B-ABF7-4153-960B-2A66613D5A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384-B765-4D4E-BA8A-346924E983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58B-CAD3-48ED-A38B-22FB97E53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C5B6-29C4-4775-9DDF-4E8A28877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A96C-38EF-4D74-AC4F-1BD99A9C8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5781240"/>
            <a:ext cx="264636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3CC2-33D5-45A4-9081-10EA08A15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6257520"/>
            <a:ext cx="11620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676-1CF8-45C4-B9A1-161162506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EEE-05DF-439B-BAAB-BDFE0678B0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17B-3F74-494F-A40F-32E4D6B38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7437-C643-4A4B-8660-3B193FBEF7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6647-CF65-4721-BC65-B88CC49A2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258-E889-49AE-9DE9-708A2C599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ACE-6220-45E5-8E56-30098E2BE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7D8-7530-4659-9934-10CF3D23E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09B-AB92-47AE-BCA1-02E594E82E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5785920"/>
            <a:ext cx="2610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4288-F98E-4D93-AFAD-A8F99A5F7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3D5B-C2D1-493D-A302-F4EE2AABD7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937400" y="8867520"/>
            <a:ext cx="86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7E5B-9437-466F-858B-6C74E7CEA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162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26A-9CF4-4E99-840F-020305E5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EA1-9860-4188-B25B-9B8B068C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1AE-594E-427A-A4EA-C53DCFD6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608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C9D-16CB-4B7C-9886-FC4E453F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2DD-5390-46D2-A5DF-8DA1DB61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26C-34A5-441B-98D7-648E5D0C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2CC-6AB0-4B65-93FC-5AC30DD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5DF-565D-4AA1-8C30-E2E8B97A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D33-E46E-4722-96FE-A2569BAB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BD9-DECB-4455-9ABD-08DDCDE8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608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4AE-0252-44A4-88A4-81071BD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608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173-DA40-46E2-B87B-42D95F2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EA80-1B66-4FE1-B8A8-5D27E1DB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685800" y="1600200"/>
            <a:ext cx="7772400" cy="4572000"/>
            <a:chOff x="685800" y="1600200"/>
            <a:chExt cx="7772400" cy="4572000"/>
          </a:xfrm>
        </p:grpSpPr>
        <p:sp>
          <p:nvSpPr>
            <p:cNvPr id="6" name="Line 7"/>
            <p:cNvSpPr/>
            <p:nvPr/>
          </p:nvSpPr>
          <p:spPr>
            <a:xfrm>
              <a:off x="4572000" y="1600200"/>
              <a:ext cx="0" cy="45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685800" y="1600200"/>
              <a:ext cx="777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File:Mudflats-polariser.jp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index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3dmovies.com/" TargetMode="External"/><Relationship Id="rId2" Type="http://schemas.openxmlformats.org/officeDocument/2006/relationships/hyperlink" Target="http://www.3dmovies.com/" TargetMode="External"/><Relationship Id="rId3" Type="http://schemas.openxmlformats.org/officeDocument/2006/relationships/hyperlink" Target="http://www.3dmovies.com/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camconferences.org/ivan_talk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F627-186D-460C-BD9C-9936CA1DC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3080" y="1701360"/>
            <a:ext cx="424152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attering and Po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waves c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at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f water droplets, dust particles and other molecules in 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wavelengths in white light scatter more than others (Rayleigh scatte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why the sky is b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polar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light refers to the plane in which the waveform and electric force field l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0160" y="1663560"/>
            <a:ext cx="4279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light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aveforms and electric force field on a given ray keep jumping around in orientation while always perpendicur to the 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cattered or reflected ligh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polarized in particular pl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oid sungla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an block out polarized light from sky and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movies &amp; other applications of polarize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ysics 1230:  </a:t>
            </a:r>
            <a:r>
              <a:rPr b="1" lang="en-US" sz="4000" spc="-1" strike="noStrike">
                <a:solidFill>
                  <a:srgbClr val="0bd540"/>
                </a:solidFill>
                <a:latin typeface="Times New Roman"/>
              </a:rPr>
              <a:t>Ligh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33"/>
                </a:solidFill>
                <a:latin typeface="Times New Roman"/>
              </a:rPr>
              <a:t>Col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the sky is bl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Because of scattering of short-wavelength blue light  coming from the Su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Because of light absorption similar to that in color filt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A &amp;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ecause of dispersion and total internal refle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None of the abo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olor of the sky one can see from Jupit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l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R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Whi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Blu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Yello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90880" y="304560"/>
            <a:ext cx="965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Without Rayleigh scattering the Sky would b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R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Gre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Black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Whi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1897200"/>
            <a:ext cx="45720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particles scatter red as well as blue and hence look wh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st or sm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ud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oidal susp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ma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yp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ing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887560" y="3370320"/>
            <a:ext cx="2616480" cy="348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527800" y="2219400"/>
            <a:ext cx="3616200" cy="4638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ght scattering in milk and smo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the sunset is 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752480"/>
            <a:ext cx="467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. Because of light absorption similar to that in color filter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. Because of scattering of blue and green light  and only red light coming to our eye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. Because of its polarized natur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. Because of  chromatic &amp; spherical aberration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. None of the abov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796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6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larized Light due to ref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80172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44360" y="59864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larly reflected light blocked using a polarizer (Polaroid fil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882720" y="6458040"/>
            <a:ext cx="65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en.wikipedia.org/wiki/File:Mudflats-polariser.jp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778040" y="3930480"/>
            <a:ext cx="531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7c605"/>
                </a:solidFill>
                <a:latin typeface="Times New Roman"/>
              </a:rPr>
              <a:t>Review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What is the </a:t>
            </a:r>
            <a:r>
              <a:rPr b="0" i="1" lang="en-US" sz="3200" spc="-1" strike="noStrike">
                <a:solidFill>
                  <a:srgbClr val="f7c605"/>
                </a:solidFill>
                <a:latin typeface="Times New Roman"/>
              </a:rPr>
              <a:t>wa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mono-chromatic (single wavelength) wave along a 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5960" y="1665360"/>
            <a:ext cx="45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eed of light in empty space is c = 186,000 miles/se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 3 x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eters/s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0" t="0" r="1345" b="4487"/>
          <a:stretch/>
        </p:blipFill>
        <p:spPr>
          <a:xfrm>
            <a:off x="2720880" y="2717640"/>
            <a:ext cx="552636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8305920" y="3390840"/>
            <a:ext cx="837720" cy="1648080"/>
            <a:chOff x="8305920" y="3390840"/>
            <a:chExt cx="837720" cy="1648080"/>
          </a:xfrm>
        </p:grpSpPr>
        <p:sp>
          <p:nvSpPr>
            <p:cNvPr id="142" name="Line 6"/>
            <p:cNvSpPr/>
            <p:nvPr/>
          </p:nvSpPr>
          <p:spPr>
            <a:xfrm flipH="1" flipV="1">
              <a:off x="8307360" y="3390840"/>
              <a:ext cx="5328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8305920" y="445752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a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6307560" y="4025880"/>
            <a:ext cx="1700280" cy="1480320"/>
            <a:chOff x="6307560" y="4025880"/>
            <a:chExt cx="1700280" cy="1480320"/>
          </a:xfrm>
        </p:grpSpPr>
        <p:sp>
          <p:nvSpPr>
            <p:cNvPr id="145" name="Rectangle 9"/>
            <p:cNvSpPr/>
            <p:nvPr/>
          </p:nvSpPr>
          <p:spPr>
            <a:xfrm>
              <a:off x="6307560" y="4985640"/>
              <a:ext cx="17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Wave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 flipV="1">
              <a:off x="7403760" y="4025880"/>
              <a:ext cx="759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88920" y="2478240"/>
            <a:ext cx="2590920" cy="3203640"/>
            <a:chOff x="88920" y="2478240"/>
            <a:chExt cx="2590920" cy="3203640"/>
          </a:xfrm>
        </p:grpSpPr>
        <p:sp>
          <p:nvSpPr>
            <p:cNvPr id="148" name="Text Box 12"/>
            <p:cNvSpPr/>
            <p:nvPr/>
          </p:nvSpPr>
          <p:spPr>
            <a:xfrm>
              <a:off x="88920" y="2478240"/>
              <a:ext cx="25239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Amplitude</a:t>
              </a:r>
              <a:br>
                <a:rPr sz="40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maximum heigh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</a:t>
              </a:r>
              <a:r>
                <a:rPr b="1" i="1" lang="en-US" sz="2000" spc="-1" strike="noStrike">
                  <a:solidFill>
                    <a:srgbClr val="f7c605"/>
                  </a:solidFill>
                  <a:latin typeface="Times New Roman"/>
                </a:rPr>
                <a:t>intensity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of the light is proportional to the amplitude squared.  Large amplitude means bright light.  Low amplitude means dim l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13"/>
            <p:cNvSpPr/>
            <p:nvPr/>
          </p:nvSpPr>
          <p:spPr>
            <a:xfrm>
              <a:off x="2502000" y="2717640"/>
              <a:ext cx="177840" cy="635040"/>
            </a:xfrm>
            <a:custGeom>
              <a:avLst/>
              <a:gdLst>
                <a:gd name="textAreaLeft" fmla="*/ 113760 w 177840"/>
                <a:gd name="textAreaRight" fmla="*/ 177840 w 177840"/>
                <a:gd name="textAreaTop" fmla="*/ 16560 h 635040"/>
                <a:gd name="textAreaBottom" fmla="*/ 61848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4759200" y="4046400"/>
            <a:ext cx="642600" cy="2721600"/>
            <a:chOff x="4759200" y="4046400"/>
            <a:chExt cx="642600" cy="2721600"/>
          </a:xfrm>
        </p:grpSpPr>
        <p:sp>
          <p:nvSpPr>
            <p:cNvPr id="151" name="Text Box 15"/>
            <p:cNvSpPr/>
            <p:nvPr/>
          </p:nvSpPr>
          <p:spPr>
            <a:xfrm rot="16200000">
              <a:off x="3886560" y="5252760"/>
              <a:ext cx="23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Wavelengt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AutoShape 16"/>
            <p:cNvSpPr/>
            <p:nvPr/>
          </p:nvSpPr>
          <p:spPr>
            <a:xfrm rot="16221600">
              <a:off x="4994280" y="3914280"/>
              <a:ext cx="214200" cy="480960"/>
            </a:xfrm>
            <a:custGeom>
              <a:avLst/>
              <a:gdLst>
                <a:gd name="textAreaLeft" fmla="*/ 136800 w 214200"/>
                <a:gd name="textAreaRight" fmla="*/ 214560 w 214200"/>
                <a:gd name="textAreaTop" fmla="*/ 12240 h 480960"/>
                <a:gd name="textAreaBottom" fmla="*/ 468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0" t="0" r="1345" b="4487"/>
          <a:stretch/>
        </p:blipFill>
        <p:spPr>
          <a:xfrm>
            <a:off x="3394080" y="2286000"/>
            <a:ext cx="5526000" cy="1225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c605"/>
                </a:solidFill>
                <a:latin typeface="Times New Roman"/>
              </a:rPr>
              <a:t>Review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What is light "made of?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47048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ght consists of </a:t>
            </a:r>
            <a:r>
              <a:rPr b="1" i="1" lang="en-US" sz="1800" spc="-1" strike="noStrike">
                <a:solidFill>
                  <a:srgbClr val="f7c605"/>
                </a:solidFill>
                <a:latin typeface="Times New Roman"/>
              </a:rPr>
              <a:t>electr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and magnetic)</a:t>
            </a:r>
            <a:r>
              <a:rPr b="1" i="1" lang="en-US" sz="1800" spc="-1" strike="noStrike">
                <a:solidFill>
                  <a:srgbClr val="f7c605"/>
                </a:solidFill>
                <a:latin typeface="Times New Roman"/>
              </a:rPr>
              <a:t> field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ving through space at the speed of 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4898880" y="4246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5232240" y="4512240"/>
            <a:ext cx="33768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aveform can be replaced by a set of arrows perpendicular to the ray whose tips lie along the wave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10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ossed polarizers: block propagation of electromagnetic wa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648400" y="4040280"/>
            <a:ext cx="3011400" cy="310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rcRect l="3600" t="46134" r="2400" b="8023"/>
          <a:stretch/>
        </p:blipFill>
        <p:spPr>
          <a:xfrm>
            <a:off x="30240" y="1197000"/>
            <a:ext cx="908028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652320" y="1246320"/>
            <a:ext cx="18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s on a r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5920" y="4578480"/>
            <a:ext cx="491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about the waves on a ro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light: Polarizers (Polaroid film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71600" y="1292400"/>
            <a:ext cx="8454960" cy="348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3600" t="46134" r="2400" b="8023"/>
          <a:stretch/>
        </p:blipFill>
        <p:spPr>
          <a:xfrm>
            <a:off x="1881360" y="4910040"/>
            <a:ext cx="6672240" cy="1947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10440" y="473580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tor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288288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3D movies use polaroid filters (polarizers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5" descr="viewing3D"/>
          <p:cNvPicPr/>
          <p:nvPr/>
        </p:nvPicPr>
        <p:blipFill>
          <a:blip r:embed="rId1"/>
          <a:stretch/>
        </p:blipFill>
        <p:spPr>
          <a:xfrm>
            <a:off x="2914560" y="0"/>
            <a:ext cx="60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eaff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gh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110"/>
          <p:cNvGrpSpPr/>
          <p:nvPr/>
        </p:nvGrpSpPr>
        <p:grpSpPr>
          <a:xfrm>
            <a:off x="5146920" y="3128400"/>
            <a:ext cx="2098080" cy="652680"/>
            <a:chOff x="5146920" y="3128400"/>
            <a:chExt cx="2098080" cy="652680"/>
          </a:xfrm>
        </p:grpSpPr>
        <p:sp>
          <p:nvSpPr>
            <p:cNvPr id="169" name="Rectangle 81"/>
            <p:cNvSpPr/>
            <p:nvPr/>
          </p:nvSpPr>
          <p:spPr>
            <a:xfrm rot="21280800">
              <a:off x="5164200" y="3222720"/>
              <a:ext cx="206352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Group 80"/>
            <p:cNvGrpSpPr/>
            <p:nvPr/>
          </p:nvGrpSpPr>
          <p:grpSpPr>
            <a:xfrm>
              <a:off x="5146920" y="3141360"/>
              <a:ext cx="2097000" cy="633240"/>
              <a:chOff x="5146920" y="3141360"/>
              <a:chExt cx="2097000" cy="633240"/>
            </a:xfrm>
          </p:grpSpPr>
          <p:grpSp>
            <p:nvGrpSpPr>
              <p:cNvPr id="171" name="Group 26"/>
              <p:cNvGrpSpPr/>
              <p:nvPr/>
            </p:nvGrpSpPr>
            <p:grpSpPr>
              <a:xfrm>
                <a:off x="5146920" y="3141360"/>
                <a:ext cx="2097000" cy="633240"/>
                <a:chOff x="5146920" y="3141360"/>
                <a:chExt cx="2097000" cy="633240"/>
              </a:xfrm>
            </p:grpSpPr>
            <p:grpSp>
              <p:nvGrpSpPr>
                <p:cNvPr id="172" name="Group 27"/>
                <p:cNvGrpSpPr/>
                <p:nvPr/>
              </p:nvGrpSpPr>
              <p:grpSpPr>
                <a:xfrm>
                  <a:off x="5146920" y="3141360"/>
                  <a:ext cx="1996560" cy="633240"/>
                  <a:chOff x="5146920" y="3141360"/>
                  <a:chExt cx="1996560" cy="633240"/>
                </a:xfrm>
              </p:grpSpPr>
              <p:sp>
                <p:nvSpPr>
                  <p:cNvPr id="173" name="Freeform 28"/>
                  <p:cNvSpPr/>
                  <p:nvPr/>
                </p:nvSpPr>
                <p:spPr>
                  <a:xfrm rot="21253200">
                    <a:off x="5166720" y="331308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Freeform 29"/>
                  <p:cNvSpPr/>
                  <p:nvPr/>
                </p:nvSpPr>
                <p:spPr>
                  <a:xfrm rot="21253200">
                    <a:off x="5815440" y="324756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Freeform 30"/>
                  <p:cNvSpPr/>
                  <p:nvPr/>
                </p:nvSpPr>
                <p:spPr>
                  <a:xfrm rot="21253200">
                    <a:off x="6464160" y="3173040"/>
                    <a:ext cx="659160" cy="429120"/>
                  </a:xfrm>
                  <a:prstGeom prst="pie">
                    <a:avLst/>
                  </a:prstGeom>
                  <a:noFill/>
                  <a:ln w="9360">
                    <a:solidFill>
                      <a:srgbClr val="ff615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Line 31"/>
                <p:cNvSpPr/>
                <p:nvPr/>
              </p:nvSpPr>
              <p:spPr>
                <a:xfrm flipV="1">
                  <a:off x="5170320" y="3367080"/>
                  <a:ext cx="2073600" cy="210240"/>
                </a:xfrm>
                <a:prstGeom prst="line">
                  <a:avLst/>
                </a:prstGeom>
                <a:ln w="12600">
                  <a:solidFill>
                    <a:srgbClr val="ff615b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5232240" y="3215160"/>
                <a:ext cx="1320120" cy="534960"/>
                <a:chOff x="5232240" y="3215160"/>
                <a:chExt cx="1320120" cy="534960"/>
              </a:xfrm>
            </p:grpSpPr>
            <p:sp>
              <p:nvSpPr>
                <p:cNvPr id="178" name="Line 60"/>
                <p:cNvSpPr/>
                <p:nvPr/>
              </p:nvSpPr>
              <p:spPr>
                <a:xfrm flipH="1" flipV="1">
                  <a:off x="5232240" y="33382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61"/>
                <p:cNvSpPr/>
                <p:nvPr/>
              </p:nvSpPr>
              <p:spPr>
                <a:xfrm flipH="1" flipV="1">
                  <a:off x="5555880" y="3295800"/>
                  <a:ext cx="2016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62"/>
                <p:cNvSpPr/>
                <p:nvPr/>
              </p:nvSpPr>
              <p:spPr>
                <a:xfrm flipH="1" flipV="1">
                  <a:off x="5878800" y="32824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63"/>
                <p:cNvSpPr/>
                <p:nvPr/>
              </p:nvSpPr>
              <p:spPr>
                <a:xfrm flipH="1" flipV="1">
                  <a:off x="6197040" y="3233520"/>
                  <a:ext cx="20160" cy="21960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64"/>
                <p:cNvSpPr/>
                <p:nvPr/>
              </p:nvSpPr>
              <p:spPr>
                <a:xfrm flipH="1" flipV="1">
                  <a:off x="6532200" y="3215160"/>
                  <a:ext cx="2016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65"/>
                <p:cNvSpPr/>
                <p:nvPr/>
              </p:nvSpPr>
              <p:spPr>
                <a:xfrm flipH="1" flipV="1">
                  <a:off x="5417280" y="3531240"/>
                  <a:ext cx="2052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66"/>
                <p:cNvSpPr/>
                <p:nvPr/>
              </p:nvSpPr>
              <p:spPr>
                <a:xfrm flipH="1" flipV="1">
                  <a:off x="5740560" y="3505320"/>
                  <a:ext cx="2052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67"/>
                <p:cNvSpPr/>
                <p:nvPr/>
              </p:nvSpPr>
              <p:spPr>
                <a:xfrm flipH="1" flipV="1">
                  <a:off x="6075720" y="3481200"/>
                  <a:ext cx="20520" cy="21888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68"/>
                <p:cNvSpPr/>
                <p:nvPr/>
              </p:nvSpPr>
              <p:spPr>
                <a:xfrm flipH="1" flipV="1">
                  <a:off x="6393600" y="3455280"/>
                  <a:ext cx="20160" cy="219240"/>
                </a:xfrm>
                <a:prstGeom prst="line">
                  <a:avLst/>
                </a:prstGeom>
                <a:ln w="19080">
                  <a:solidFill>
                    <a:srgbClr val="0099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7" name="Group 111"/>
          <p:cNvGrpSpPr/>
          <p:nvPr/>
        </p:nvGrpSpPr>
        <p:grpSpPr>
          <a:xfrm>
            <a:off x="5185800" y="3363480"/>
            <a:ext cx="2274120" cy="1179000"/>
            <a:chOff x="5185800" y="3363480"/>
            <a:chExt cx="2274120" cy="1179000"/>
          </a:xfrm>
        </p:grpSpPr>
        <p:sp>
          <p:nvSpPr>
            <p:cNvPr id="188" name="Rectangle 82"/>
            <p:cNvSpPr/>
            <p:nvPr/>
          </p:nvSpPr>
          <p:spPr>
            <a:xfrm rot="20770800">
              <a:off x="5235120" y="3613320"/>
              <a:ext cx="217476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5"/>
            <p:cNvGrpSpPr/>
            <p:nvPr/>
          </p:nvGrpSpPr>
          <p:grpSpPr>
            <a:xfrm>
              <a:off x="5237640" y="3802680"/>
              <a:ext cx="2013120" cy="358560"/>
              <a:chOff x="5237640" y="3802680"/>
              <a:chExt cx="2013120" cy="358560"/>
            </a:xfrm>
          </p:grpSpPr>
          <p:sp>
            <p:nvSpPr>
              <p:cNvPr id="190" name="Freeform 86"/>
              <p:cNvSpPr/>
              <p:nvPr/>
            </p:nvSpPr>
            <p:spPr>
              <a:xfrm rot="21252600">
                <a:off x="5243400" y="397332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87"/>
              <p:cNvSpPr/>
              <p:nvPr/>
            </p:nvSpPr>
            <p:spPr>
              <a:xfrm rot="21252600">
                <a:off x="5906880" y="390636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88"/>
              <p:cNvSpPr/>
              <p:nvPr/>
            </p:nvSpPr>
            <p:spPr>
              <a:xfrm rot="21252600">
                <a:off x="6570360" y="3836160"/>
                <a:ext cx="673920" cy="154080"/>
              </a:xfrm>
              <a:prstGeom prst="pie">
                <a:avLst/>
              </a:prstGeom>
              <a:noFill/>
              <a:ln w="9360">
                <a:solidFill>
                  <a:srgbClr val="ff61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Line 89"/>
            <p:cNvSpPr/>
            <p:nvPr/>
          </p:nvSpPr>
          <p:spPr>
            <a:xfrm flipV="1">
              <a:off x="5277240" y="3863520"/>
              <a:ext cx="2073600" cy="210240"/>
            </a:xfrm>
            <a:prstGeom prst="line">
              <a:avLst/>
            </a:prstGeom>
            <a:ln w="12600">
              <a:solidFill>
                <a:srgbClr val="ff61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00"/>
            <p:cNvSpPr/>
            <p:nvPr/>
          </p:nvSpPr>
          <p:spPr>
            <a:xfrm flipH="1" flipV="1">
              <a:off x="5300280" y="3957480"/>
              <a:ext cx="3780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01"/>
            <p:cNvSpPr/>
            <p:nvPr/>
          </p:nvSpPr>
          <p:spPr>
            <a:xfrm flipH="1" flipV="1">
              <a:off x="5624280" y="3919320"/>
              <a:ext cx="38160" cy="88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02"/>
            <p:cNvSpPr/>
            <p:nvPr/>
          </p:nvSpPr>
          <p:spPr>
            <a:xfrm flipH="1" flipV="1">
              <a:off x="5967000" y="3887640"/>
              <a:ext cx="3780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103"/>
            <p:cNvSpPr/>
            <p:nvPr/>
          </p:nvSpPr>
          <p:spPr>
            <a:xfrm flipH="1" flipV="1">
              <a:off x="6291000" y="386856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104"/>
            <p:cNvSpPr/>
            <p:nvPr/>
          </p:nvSpPr>
          <p:spPr>
            <a:xfrm flipH="1" flipV="1">
              <a:off x="6627600" y="3843000"/>
              <a:ext cx="4464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105"/>
            <p:cNvSpPr/>
            <p:nvPr/>
          </p:nvSpPr>
          <p:spPr>
            <a:xfrm flipH="1" flipV="1">
              <a:off x="5478120" y="405936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106"/>
            <p:cNvSpPr/>
            <p:nvPr/>
          </p:nvSpPr>
          <p:spPr>
            <a:xfrm flipH="1" flipV="1">
              <a:off x="5802120" y="402120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07"/>
            <p:cNvSpPr/>
            <p:nvPr/>
          </p:nvSpPr>
          <p:spPr>
            <a:xfrm flipH="1" flipV="1">
              <a:off x="6144840" y="3989160"/>
              <a:ext cx="37800" cy="88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08"/>
            <p:cNvSpPr/>
            <p:nvPr/>
          </p:nvSpPr>
          <p:spPr>
            <a:xfrm flipH="1" flipV="1">
              <a:off x="6475320" y="3970440"/>
              <a:ext cx="38160" cy="885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109"/>
            <p:cNvSpPr/>
            <p:nvPr/>
          </p:nvSpPr>
          <p:spPr>
            <a:xfrm flipH="1" flipV="1">
              <a:off x="6811560" y="3925440"/>
              <a:ext cx="4428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146"/>
          <p:cNvGrpSpPr/>
          <p:nvPr/>
        </p:nvGrpSpPr>
        <p:grpSpPr>
          <a:xfrm>
            <a:off x="5011560" y="3903840"/>
            <a:ext cx="464040" cy="774000"/>
            <a:chOff x="5011560" y="3903840"/>
            <a:chExt cx="464040" cy="774000"/>
          </a:xfrm>
        </p:grpSpPr>
        <p:sp>
          <p:nvSpPr>
            <p:cNvPr id="205" name="Line 113"/>
            <p:cNvSpPr/>
            <p:nvPr/>
          </p:nvSpPr>
          <p:spPr>
            <a:xfrm>
              <a:off x="5011560" y="3903840"/>
              <a:ext cx="220680" cy="43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115"/>
            <p:cNvSpPr/>
            <p:nvPr/>
          </p:nvSpPr>
          <p:spPr>
            <a:xfrm>
              <a:off x="5166720" y="427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144"/>
          <p:cNvGrpSpPr/>
          <p:nvPr/>
        </p:nvGrpSpPr>
        <p:grpSpPr>
          <a:xfrm>
            <a:off x="6083280" y="2013120"/>
            <a:ext cx="2935440" cy="925200"/>
            <a:chOff x="6083280" y="2013120"/>
            <a:chExt cx="2935440" cy="925200"/>
          </a:xfrm>
        </p:grpSpPr>
        <p:sp>
          <p:nvSpPr>
            <p:cNvPr id="208" name="Text Box 123"/>
            <p:cNvSpPr/>
            <p:nvPr/>
          </p:nvSpPr>
          <p:spPr>
            <a:xfrm>
              <a:off x="6083280" y="2013120"/>
              <a:ext cx="293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ooking at ray "head-on" see green arrows up &amp;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24"/>
            <p:cNvSpPr/>
            <p:nvPr/>
          </p:nvSpPr>
          <p:spPr>
            <a:xfrm>
              <a:off x="8483760" y="2430360"/>
              <a:ext cx="218880" cy="5079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Group 149"/>
          <p:cNvGrpSpPr/>
          <p:nvPr/>
        </p:nvGrpSpPr>
        <p:grpSpPr>
          <a:xfrm>
            <a:off x="4820760" y="2838960"/>
            <a:ext cx="2243520" cy="1068840"/>
            <a:chOff x="4820760" y="2838960"/>
            <a:chExt cx="2243520" cy="1068840"/>
          </a:xfrm>
        </p:grpSpPr>
        <p:grpSp>
          <p:nvGrpSpPr>
            <p:cNvPr id="211" name="Group 145"/>
            <p:cNvGrpSpPr/>
            <p:nvPr/>
          </p:nvGrpSpPr>
          <p:grpSpPr>
            <a:xfrm>
              <a:off x="4820760" y="2838960"/>
              <a:ext cx="308880" cy="1063080"/>
              <a:chOff x="4820760" y="2838960"/>
              <a:chExt cx="308880" cy="1063080"/>
            </a:xfrm>
          </p:grpSpPr>
          <p:sp>
            <p:nvSpPr>
              <p:cNvPr id="212" name="Line 112"/>
              <p:cNvSpPr/>
              <p:nvPr/>
            </p:nvSpPr>
            <p:spPr>
              <a:xfrm flipH="1" flipV="1">
                <a:off x="4967280" y="3241800"/>
                <a:ext cx="52560" cy="660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Text Box 114"/>
              <p:cNvSpPr/>
              <p:nvPr/>
            </p:nvSpPr>
            <p:spPr>
              <a:xfrm>
                <a:off x="4820760" y="283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47"/>
            <p:cNvGrpSpPr/>
            <p:nvPr/>
          </p:nvGrpSpPr>
          <p:grpSpPr>
            <a:xfrm>
              <a:off x="5021280" y="3508920"/>
              <a:ext cx="2043000" cy="398880"/>
              <a:chOff x="5021280" y="3508920"/>
              <a:chExt cx="2043000" cy="398880"/>
            </a:xfrm>
          </p:grpSpPr>
          <p:sp>
            <p:nvSpPr>
              <p:cNvPr id="215" name="Line 125"/>
              <p:cNvSpPr/>
              <p:nvPr/>
            </p:nvSpPr>
            <p:spPr>
              <a:xfrm flipV="1">
                <a:off x="5021280" y="3733920"/>
                <a:ext cx="1758960" cy="169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Text Box 126"/>
              <p:cNvSpPr/>
              <p:nvPr/>
            </p:nvSpPr>
            <p:spPr>
              <a:xfrm>
                <a:off x="6770880" y="35089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Group 148"/>
          <p:cNvGrpSpPr/>
          <p:nvPr/>
        </p:nvGrpSpPr>
        <p:grpSpPr>
          <a:xfrm>
            <a:off x="7569360" y="2914560"/>
            <a:ext cx="1572840" cy="1518840"/>
            <a:chOff x="7569360" y="2914560"/>
            <a:chExt cx="1572840" cy="1518840"/>
          </a:xfrm>
        </p:grpSpPr>
        <p:sp>
          <p:nvSpPr>
            <p:cNvPr id="218" name="Line 127"/>
            <p:cNvSpPr/>
            <p:nvPr/>
          </p:nvSpPr>
          <p:spPr>
            <a:xfrm flipV="1">
              <a:off x="7790040" y="3895560"/>
              <a:ext cx="1071360" cy="162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16"/>
            <p:cNvSpPr/>
            <p:nvPr/>
          </p:nvSpPr>
          <p:spPr>
            <a:xfrm>
              <a:off x="7569360" y="2914560"/>
              <a:ext cx="1125360" cy="11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17"/>
            <p:cNvSpPr/>
            <p:nvPr/>
          </p:nvSpPr>
          <p:spPr>
            <a:xfrm flipV="1">
              <a:off x="7807320" y="355572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18"/>
            <p:cNvSpPr/>
            <p:nvPr/>
          </p:nvSpPr>
          <p:spPr>
            <a:xfrm>
              <a:off x="7815240" y="4064040"/>
              <a:ext cx="330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119"/>
            <p:cNvSpPr/>
            <p:nvPr/>
          </p:nvSpPr>
          <p:spPr>
            <a:xfrm>
              <a:off x="8095680" y="4034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120"/>
            <p:cNvSpPr/>
            <p:nvPr/>
          </p:nvSpPr>
          <p:spPr>
            <a:xfrm>
              <a:off x="7614720" y="3212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8008920" y="3073320"/>
              <a:ext cx="0" cy="465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7942320" y="3819600"/>
              <a:ext cx="422280" cy="33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Text Box 128"/>
            <p:cNvSpPr/>
            <p:nvPr/>
          </p:nvSpPr>
          <p:spPr>
            <a:xfrm>
              <a:off x="8848800" y="3670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129"/>
          <p:cNvGrpSpPr/>
          <p:nvPr/>
        </p:nvGrpSpPr>
        <p:grpSpPr>
          <a:xfrm>
            <a:off x="7359480" y="2986200"/>
            <a:ext cx="437760" cy="579600"/>
            <a:chOff x="7359480" y="2986200"/>
            <a:chExt cx="437760" cy="579600"/>
          </a:xfrm>
        </p:grpSpPr>
        <p:sp>
          <p:nvSpPr>
            <p:cNvPr id="228" name="Freeform 130"/>
            <p:cNvSpPr/>
            <p:nvPr/>
          </p:nvSpPr>
          <p:spPr>
            <a:xfrm flipH="1" rot="1795200">
              <a:off x="7433280" y="3123000"/>
              <a:ext cx="289800" cy="373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31"/>
            <p:cNvSpPr/>
            <p:nvPr/>
          </p:nvSpPr>
          <p:spPr>
            <a:xfrm flipH="1" rot="198000">
              <a:off x="7405200" y="3251520"/>
              <a:ext cx="68400" cy="17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32"/>
            <p:cNvSpPr/>
            <p:nvPr/>
          </p:nvSpPr>
          <p:spPr>
            <a:xfrm flipH="1" rot="1795200">
              <a:off x="7479360" y="3027600"/>
              <a:ext cx="222480" cy="20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33"/>
            <p:cNvSpPr/>
            <p:nvPr/>
          </p:nvSpPr>
          <p:spPr>
            <a:xfrm flipH="1" rot="1795200">
              <a:off x="7430040" y="3478320"/>
              <a:ext cx="173880" cy="46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1080" y="1658880"/>
            <a:ext cx="44038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is polarized if the waveform and electric force field arrows remains in the sam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(green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lectric forc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row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ust always be perpendicular to the 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a light ra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vel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z-direction an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y-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re is a light ra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ravel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same direction but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lariz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x-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will visualize the polarization in the x-y plane, looking at rays head-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reen force arrows point up and down or left and right, stacked up behind one-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8720" indent="-1846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re is the convention for visualizing vertical and horizontal polar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143"/>
          <p:cNvGrpSpPr/>
          <p:nvPr/>
        </p:nvGrpSpPr>
        <p:grpSpPr>
          <a:xfrm>
            <a:off x="5692320" y="4910040"/>
            <a:ext cx="1394280" cy="1496520"/>
            <a:chOff x="5692320" y="4910040"/>
            <a:chExt cx="1394280" cy="1496520"/>
          </a:xfrm>
        </p:grpSpPr>
        <p:sp>
          <p:nvSpPr>
            <p:cNvPr id="234" name="Rectangle 136"/>
            <p:cNvSpPr/>
            <p:nvPr/>
          </p:nvSpPr>
          <p:spPr>
            <a:xfrm>
              <a:off x="6095880" y="4910040"/>
              <a:ext cx="990720" cy="10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137"/>
            <p:cNvSpPr/>
            <p:nvPr/>
          </p:nvSpPr>
          <p:spPr>
            <a:xfrm>
              <a:off x="6315120" y="5062680"/>
              <a:ext cx="0" cy="465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38"/>
            <p:cNvSpPr/>
            <p:nvPr/>
          </p:nvSpPr>
          <p:spPr>
            <a:xfrm flipV="1">
              <a:off x="6383160" y="5638320"/>
              <a:ext cx="447840" cy="1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39"/>
            <p:cNvSpPr/>
            <p:nvPr/>
          </p:nvSpPr>
          <p:spPr>
            <a:xfrm flipV="1">
              <a:off x="5884920" y="532584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40"/>
            <p:cNvSpPr/>
            <p:nvPr/>
          </p:nvSpPr>
          <p:spPr>
            <a:xfrm>
              <a:off x="5692320" y="4982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41"/>
            <p:cNvSpPr/>
            <p:nvPr/>
          </p:nvSpPr>
          <p:spPr>
            <a:xfrm>
              <a:off x="6129360" y="6221520"/>
              <a:ext cx="492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Text Box 142"/>
            <p:cNvSpPr/>
            <p:nvPr/>
          </p:nvSpPr>
          <p:spPr>
            <a:xfrm>
              <a:off x="6689160" y="6007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direction is this light ray polariz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Vertic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Horizont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Along the light propagation direction (yellow arrow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None of the abo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4646520" y="2360520"/>
            <a:ext cx="4497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77"/>
          <p:cNvGrpSpPr/>
          <p:nvPr/>
        </p:nvGrpSpPr>
        <p:grpSpPr>
          <a:xfrm>
            <a:off x="6589080" y="4657680"/>
            <a:ext cx="1394280" cy="1496520"/>
            <a:chOff x="6589080" y="4657680"/>
            <a:chExt cx="1394280" cy="1496520"/>
          </a:xfrm>
        </p:grpSpPr>
        <p:sp>
          <p:nvSpPr>
            <p:cNvPr id="245" name="Rectangle 58"/>
            <p:cNvSpPr/>
            <p:nvPr/>
          </p:nvSpPr>
          <p:spPr>
            <a:xfrm>
              <a:off x="6993000" y="4657680"/>
              <a:ext cx="990360" cy="10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 flipV="1">
              <a:off x="6781680" y="5073480"/>
              <a:ext cx="0" cy="50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58908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>
              <a:off x="7026120" y="5969160"/>
              <a:ext cx="492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7586280" y="5755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Group 68"/>
          <p:cNvGrpSpPr/>
          <p:nvPr/>
        </p:nvGrpSpPr>
        <p:grpSpPr>
          <a:xfrm>
            <a:off x="5500440" y="3259080"/>
            <a:ext cx="371880" cy="495000"/>
            <a:chOff x="5500440" y="3259080"/>
            <a:chExt cx="371880" cy="495000"/>
          </a:xfrm>
        </p:grpSpPr>
        <p:sp>
          <p:nvSpPr>
            <p:cNvPr id="251" name="Rectangle 51"/>
            <p:cNvSpPr/>
            <p:nvPr/>
          </p:nvSpPr>
          <p:spPr>
            <a:xfrm rot="21280800">
              <a:off x="5521320" y="3273120"/>
              <a:ext cx="330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 flipH="1" flipV="1">
              <a:off x="5738400" y="3504600"/>
              <a:ext cx="34920" cy="1425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5560560" y="3371400"/>
              <a:ext cx="9720" cy="1389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eaff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gh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0240" y="1709280"/>
            <a:ext cx="4173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polar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igh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la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polarization keeps jumping 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the electric field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arrow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main perpendicular to the ray (direction of travel of the wa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visualize this in the x-y plane (looking into the ray) as shown at r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many crossed double sided arrows are the symbol for unpolarized 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hysics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67"/>
          <p:cNvGrpSpPr/>
          <p:nvPr/>
        </p:nvGrpSpPr>
        <p:grpSpPr>
          <a:xfrm>
            <a:off x="5144760" y="3284280"/>
            <a:ext cx="371880" cy="495360"/>
            <a:chOff x="5144760" y="3284280"/>
            <a:chExt cx="371880" cy="495360"/>
          </a:xfrm>
        </p:grpSpPr>
        <p:sp>
          <p:nvSpPr>
            <p:cNvPr id="257" name="Rectangle 6"/>
            <p:cNvSpPr/>
            <p:nvPr/>
          </p:nvSpPr>
          <p:spPr>
            <a:xfrm rot="21280800">
              <a:off x="5165640" y="329832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 flipH="1" flipV="1">
              <a:off x="5231160" y="3337920"/>
              <a:ext cx="201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H="1" flipV="1">
              <a:off x="5414760" y="3529800"/>
              <a:ext cx="219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6497280" y="3049200"/>
            <a:ext cx="465840" cy="734040"/>
            <a:chOff x="6497280" y="3049200"/>
            <a:chExt cx="465840" cy="734040"/>
          </a:xfrm>
        </p:grpSpPr>
        <p:sp>
          <p:nvSpPr>
            <p:cNvPr id="261" name="Line 19"/>
            <p:cNvSpPr/>
            <p:nvPr/>
          </p:nvSpPr>
          <p:spPr>
            <a:xfrm flipH="1" flipV="1">
              <a:off x="6615000" y="3261960"/>
              <a:ext cx="63000" cy="15876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 rot="20770800">
              <a:off x="6573600" y="3076560"/>
              <a:ext cx="31248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Group 75"/>
          <p:cNvGrpSpPr/>
          <p:nvPr/>
        </p:nvGrpSpPr>
        <p:grpSpPr>
          <a:xfrm>
            <a:off x="4820760" y="2838960"/>
            <a:ext cx="2243520" cy="1838880"/>
            <a:chOff x="4820760" y="2838960"/>
            <a:chExt cx="2243520" cy="1838880"/>
          </a:xfrm>
        </p:grpSpPr>
        <p:grpSp>
          <p:nvGrpSpPr>
            <p:cNvPr id="264" name="Group 41"/>
            <p:cNvGrpSpPr/>
            <p:nvPr/>
          </p:nvGrpSpPr>
          <p:grpSpPr>
            <a:xfrm>
              <a:off x="5011560" y="3903840"/>
              <a:ext cx="464040" cy="774000"/>
              <a:chOff x="5011560" y="3903840"/>
              <a:chExt cx="464040" cy="774000"/>
            </a:xfrm>
          </p:grpSpPr>
          <p:sp>
            <p:nvSpPr>
              <p:cNvPr id="265" name="Line 42"/>
              <p:cNvSpPr/>
              <p:nvPr/>
            </p:nvSpPr>
            <p:spPr>
              <a:xfrm>
                <a:off x="5011560" y="3903840"/>
                <a:ext cx="22068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5166720" y="427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4"/>
            <p:cNvGrpSpPr/>
            <p:nvPr/>
          </p:nvGrpSpPr>
          <p:grpSpPr>
            <a:xfrm>
              <a:off x="4820760" y="2838960"/>
              <a:ext cx="2243520" cy="1068840"/>
              <a:chOff x="4820760" y="2838960"/>
              <a:chExt cx="2243520" cy="1068840"/>
            </a:xfrm>
          </p:grpSpPr>
          <p:grpSp>
            <p:nvGrpSpPr>
              <p:cNvPr id="268" name="Group 45"/>
              <p:cNvGrpSpPr/>
              <p:nvPr/>
            </p:nvGrpSpPr>
            <p:grpSpPr>
              <a:xfrm>
                <a:off x="4820760" y="2838960"/>
                <a:ext cx="308880" cy="1063080"/>
                <a:chOff x="4820760" y="2838960"/>
                <a:chExt cx="308880" cy="1063080"/>
              </a:xfrm>
            </p:grpSpPr>
            <p:sp>
              <p:nvSpPr>
                <p:cNvPr id="269" name="Line 46"/>
                <p:cNvSpPr/>
                <p:nvPr/>
              </p:nvSpPr>
              <p:spPr>
                <a:xfrm flipH="1" flipV="1">
                  <a:off x="4967280" y="3241800"/>
                  <a:ext cx="52560" cy="660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47"/>
                <p:cNvSpPr/>
                <p:nvPr/>
              </p:nvSpPr>
              <p:spPr>
                <a:xfrm>
                  <a:off x="4820760" y="28389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48"/>
              <p:cNvGrpSpPr/>
              <p:nvPr/>
            </p:nvGrpSpPr>
            <p:grpSpPr>
              <a:xfrm>
                <a:off x="5021280" y="3508920"/>
                <a:ext cx="2043000" cy="398880"/>
                <a:chOff x="5021280" y="3508920"/>
                <a:chExt cx="2043000" cy="398880"/>
              </a:xfrm>
            </p:grpSpPr>
            <p:sp>
              <p:nvSpPr>
                <p:cNvPr id="272" name="Line 49"/>
                <p:cNvSpPr/>
                <p:nvPr/>
              </p:nvSpPr>
              <p:spPr>
                <a:xfrm flipV="1">
                  <a:off x="5021280" y="3733920"/>
                  <a:ext cx="175896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50"/>
                <p:cNvSpPr/>
                <p:nvPr/>
              </p:nvSpPr>
              <p:spPr>
                <a:xfrm>
                  <a:off x="6770880" y="350892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4" name="Group 69"/>
          <p:cNvGrpSpPr/>
          <p:nvPr/>
        </p:nvGrpSpPr>
        <p:grpSpPr>
          <a:xfrm>
            <a:off x="5848200" y="3241440"/>
            <a:ext cx="371880" cy="495360"/>
            <a:chOff x="5848200" y="3241440"/>
            <a:chExt cx="371880" cy="495360"/>
          </a:xfrm>
        </p:grpSpPr>
        <p:sp>
          <p:nvSpPr>
            <p:cNvPr id="275" name="Rectangle 52"/>
            <p:cNvSpPr/>
            <p:nvPr/>
          </p:nvSpPr>
          <p:spPr>
            <a:xfrm rot="21280800">
              <a:off x="5869080" y="325548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 flipH="1" flipV="1">
              <a:off x="6075000" y="3479040"/>
              <a:ext cx="27000" cy="2095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70"/>
          <p:cNvGrpSpPr/>
          <p:nvPr/>
        </p:nvGrpSpPr>
        <p:grpSpPr>
          <a:xfrm>
            <a:off x="6203880" y="3219480"/>
            <a:ext cx="371880" cy="495000"/>
            <a:chOff x="6203880" y="3219480"/>
            <a:chExt cx="371880" cy="495000"/>
          </a:xfrm>
        </p:grpSpPr>
        <p:sp>
          <p:nvSpPr>
            <p:cNvPr id="278" name="Rectangle 53"/>
            <p:cNvSpPr/>
            <p:nvPr/>
          </p:nvSpPr>
          <p:spPr>
            <a:xfrm rot="21280800">
              <a:off x="6224760" y="3233520"/>
              <a:ext cx="330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 flipH="1" flipV="1">
              <a:off x="6231600" y="3255480"/>
              <a:ext cx="16920" cy="1864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 flipH="1" flipV="1">
              <a:off x="6391800" y="3452040"/>
              <a:ext cx="18000" cy="158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72"/>
          <p:cNvGrpSpPr/>
          <p:nvPr/>
        </p:nvGrpSpPr>
        <p:grpSpPr>
          <a:xfrm>
            <a:off x="6879960" y="3139920"/>
            <a:ext cx="371880" cy="495360"/>
            <a:chOff x="6879960" y="3139920"/>
            <a:chExt cx="371880" cy="495360"/>
          </a:xfrm>
        </p:grpSpPr>
        <p:sp>
          <p:nvSpPr>
            <p:cNvPr id="282" name="Rectangle 54"/>
            <p:cNvSpPr/>
            <p:nvPr/>
          </p:nvSpPr>
          <p:spPr>
            <a:xfrm rot="21280800">
              <a:off x="6900840" y="3153960"/>
              <a:ext cx="33012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55"/>
            <p:cNvSpPr/>
            <p:nvPr/>
          </p:nvSpPr>
          <p:spPr>
            <a:xfrm flipH="1" flipV="1">
              <a:off x="6945480" y="3187080"/>
              <a:ext cx="2016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56"/>
            <p:cNvSpPr/>
            <p:nvPr/>
          </p:nvSpPr>
          <p:spPr>
            <a:xfrm flipH="1" flipV="1">
              <a:off x="7129800" y="3378960"/>
              <a:ext cx="21600" cy="218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Line 59"/>
          <p:cNvSpPr/>
          <p:nvPr/>
        </p:nvSpPr>
        <p:spPr>
          <a:xfrm>
            <a:off x="7473960" y="4929120"/>
            <a:ext cx="0" cy="46512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60"/>
          <p:cNvSpPr/>
          <p:nvPr/>
        </p:nvSpPr>
        <p:spPr>
          <a:xfrm flipV="1">
            <a:off x="7221600" y="5183280"/>
            <a:ext cx="480960" cy="144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6"/>
          <p:cNvSpPr/>
          <p:nvPr/>
        </p:nvSpPr>
        <p:spPr>
          <a:xfrm>
            <a:off x="5154480" y="2192400"/>
            <a:ext cx="19306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ectric force 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arrow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jump around while remaining perpen-dicular to the r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76"/>
          <p:cNvGrpSpPr/>
          <p:nvPr/>
        </p:nvGrpSpPr>
        <p:grpSpPr>
          <a:xfrm>
            <a:off x="5169600" y="3116520"/>
            <a:ext cx="3693240" cy="507240"/>
            <a:chOff x="5169600" y="3116520"/>
            <a:chExt cx="3693240" cy="507240"/>
          </a:xfrm>
        </p:grpSpPr>
        <p:sp>
          <p:nvSpPr>
            <p:cNvPr id="289" name="Text Box 65"/>
            <p:cNvSpPr/>
            <p:nvPr/>
          </p:nvSpPr>
          <p:spPr>
            <a:xfrm>
              <a:off x="7289640" y="3116520"/>
              <a:ext cx="1573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ave travels in z-dir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5169600" y="3366720"/>
              <a:ext cx="2073600" cy="210240"/>
            </a:xfrm>
            <a:prstGeom prst="line">
              <a:avLst/>
            </a:prstGeom>
            <a:ln w="12600">
              <a:solidFill>
                <a:srgbClr val="ff61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Line 73"/>
          <p:cNvSpPr/>
          <p:nvPr/>
        </p:nvSpPr>
        <p:spPr>
          <a:xfrm flipV="1">
            <a:off x="7286760" y="5002200"/>
            <a:ext cx="380880" cy="34128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74"/>
          <p:cNvSpPr/>
          <p:nvPr/>
        </p:nvSpPr>
        <p:spPr>
          <a:xfrm flipH="1" flipV="1">
            <a:off x="7278840" y="5002200"/>
            <a:ext cx="380880" cy="341280"/>
          </a:xfrm>
          <a:prstGeom prst="line">
            <a:avLst/>
          </a:prstGeom>
          <a:ln w="1908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0"/>
          <p:cNvSpPr/>
          <p:nvPr/>
        </p:nvSpPr>
        <p:spPr>
          <a:xfrm>
            <a:off x="274680" y="622620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olorado.edu/physics/2000/index.p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eaff4d"/>
                </a:solidFill>
                <a:latin typeface="Times New Roman"/>
              </a:rPr>
              <a:t>unpola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reflects off a horizontal surface (such as water or beach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pecial angle, the reflected light is </a:t>
            </a:r>
            <a:r>
              <a:rPr b="0" i="1" lang="en-US" sz="2800" spc="-1" strike="noStrike">
                <a:solidFill>
                  <a:srgbClr val="eaff4d"/>
                </a:solidFill>
                <a:latin typeface="Times New Roman"/>
              </a:rPr>
              <a:t>pola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horizontal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4000" y="1599840"/>
            <a:ext cx="4508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pecial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angle of inciden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where the refracted ray and reflected ray are perpendicular to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is called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Brewster's 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1908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understand, imagine the electric force arrows of the incident unpolarized light to be decomposed into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two perpendicular polariza-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904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rst polarization is horizontal (force arrows are parallel to the flat reflecting horizontal surface and perpendicular to the ra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19044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 2nd (Fig. 13.5), the arrows are perpendicular to both the ray and the horizontal force arro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525920" y="1701720"/>
            <a:ext cx="46180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67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second polarization cannot be sustained in the reflected ray because the force arrows would be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  <a:ea typeface="ＭＳ Ｐゴシック"/>
              </a:rPr>
              <a:t>paralle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to that ray (impossible for a light ra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Hence,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  <a:ea typeface="ＭＳ Ｐゴシック"/>
              </a:rPr>
              <a:t>only the horizontal polarization survives in the reflected 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9672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photo.jpg"/>
          <p:cNvPicPr/>
          <p:nvPr/>
        </p:nvPicPr>
        <p:blipFill>
          <a:blip r:embed="rId1"/>
          <a:srcRect l="3502" t="20331" r="11250" b="7000"/>
          <a:stretch/>
        </p:blipFill>
        <p:spPr>
          <a:xfrm>
            <a:off x="4556160" y="3925800"/>
            <a:ext cx="45878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266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roid sunglasses (and camera filters) take advantage of this effect to block bright reflected light from the snow, beach, road, water, sk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5640" y="1663560"/>
            <a:ext cx="444492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you wear polaroid sunglasses they block light polarized in the plane of your two ey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your head is vertical this is the horizont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ce reflected light from the ground or scattered light from the sun are mostly polarized in the horizontal plane such light is mostly block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 with polaroid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rst filter blocks one polarization and lets through the other (perpendicular)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econd blocks more and more of the remaining polarized light as its axis is rotated so as to permit only the polarization blocked by the fir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the axes of the two polaroid filters at at </a:t>
            </a:r>
            <a:r>
              <a:rPr b="0" i="1" lang="en-US" sz="1800" spc="-1" strike="noStrike">
                <a:solidFill>
                  <a:srgbClr val="eaff4d"/>
                </a:solidFill>
                <a:latin typeface="Times New Roman"/>
              </a:rPr>
              <a:t>right ang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o each other </a:t>
            </a:r>
            <a:r>
              <a:rPr b="0" i="1" lang="en-US" sz="1800" spc="-1" strike="noStrike">
                <a:solidFill>
                  <a:srgbClr val="eaff4d"/>
                </a:solidFill>
                <a:latin typeface="Times New Roman"/>
              </a:rPr>
              <a:t>no light comes thro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49840" y="1663560"/>
            <a:ext cx="40892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s 2000 polarization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olaroid filter works because it ha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ong molecules lined up parallel to each other like hai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ponents of light with polarization parallel to the molecules are absorbed and components of light polarized perpendicular to the molecules are absorbed and don't go thro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demos with crossed polar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ird polarizer at angle in between lets light through ag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tressed plastic between polarizers shows colors which reveal the stress pat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 indent="-28584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material from Chapter #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47960" y="175212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rcRect l="7345" t="11535" r="9530" b="10458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7345" t="7707" r="9375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rcRect l="7031" t="7707" r="9220" b="6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7840" y="1574280"/>
            <a:ext cx="270504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3D movies use polaroid filte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5" descr="viewing3D"/>
          <p:cNvPicPr/>
          <p:nvPr/>
        </p:nvPicPr>
        <p:blipFill>
          <a:blip r:embed="rId1"/>
          <a:stretch/>
        </p:blipFill>
        <p:spPr>
          <a:xfrm>
            <a:off x="2914560" y="0"/>
            <a:ext cx="603108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0" y="4792680"/>
            <a:ext cx="29084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35208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different approach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60480" y="1752120"/>
            <a:ext cx="4577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se color filters to make the left and right eyes perceiving slightly differen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3dmovies.com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4"/>
          <a:stretch/>
        </p:blipFill>
        <p:spPr>
          <a:xfrm>
            <a:off x="4330800" y="3164040"/>
            <a:ext cx="4813200" cy="3462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5"/>
          <a:stretch/>
        </p:blipFill>
        <p:spPr>
          <a:xfrm>
            <a:off x="6002280" y="550800"/>
            <a:ext cx="3141720" cy="2157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6"/>
          <a:stretch/>
        </p:blipFill>
        <p:spPr>
          <a:xfrm>
            <a:off x="465120" y="4768920"/>
            <a:ext cx="3036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90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ving things with light without touch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752120"/>
            <a:ext cx="482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icamconferences.org/ivan_talk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synchronized with the ppt.-file of the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minder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 #11 due on Thurs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da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ish Ch.13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ursday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pter 14+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7960" y="1752120"/>
            <a:ext cx="3987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 Tour (optional): after the class time on Tuesday, December 8, 4:30-6P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uters &amp; cell phones allowed in class today!!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er Ques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617840"/>
            <a:ext cx="45878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 3D mov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eye sees the same as the right ey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eye sees the inversed image compared to that seen by the right ey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ages seen by the two eyes are slightly different and taken from different ang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647960" y="175212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an a light wave </a:t>
            </a:r>
            <a:r>
              <a:rPr b="1" i="1" lang="en-US" sz="4000" spc="-1" strike="noStrike">
                <a:solidFill>
                  <a:srgbClr val="eaff4d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hen it encounters matt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4160" y="1739520"/>
            <a:ext cx="43178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TRANSMIT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er aimed at water or g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REFL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ecular reflection of light by a mi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use reflection of the light in this room off all the other stu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lection is re-radiation of light by the electrons in the reflecting ma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ABSO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an light shining on a red apple is absorbed by electrons in the ap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400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</a:t>
            </a:r>
            <a:r>
              <a:rPr b="1" i="1" lang="en-US" sz="2400" spc="-1" strike="noStrike">
                <a:solidFill>
                  <a:srgbClr val="eaff4d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ight wave shining on molecules in the air or plastic or other “transparent” materials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aff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ff4d"/>
                </a:solidFill>
                <a:latin typeface="Times New Roman"/>
              </a:rPr>
              <a:t>SCAT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ray moves over to the </a:t>
            </a:r>
            <a:r>
              <a:rPr b="0" i="1" lang="en-US" sz="2000" spc="-1" strike="noStrike">
                <a:solidFill>
                  <a:srgbClr val="eaff4d"/>
                </a:solidFill>
                <a:latin typeface="Times New Roman"/>
              </a:rPr>
              <a:t>sid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all directions rather than forward, backward or being absorb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ty of the scattered light can depend on 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ayleigh scattering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or why is the sky blu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63200"/>
            <a:ext cx="438156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r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e wavelength, the more light is scatt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lue is scattered more than r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why the sky is blue and sunsets are red.</a:t>
            </a:r>
            <a:r>
              <a:rPr b="0" lang="en-US" sz="2000" spc="-1" strike="noStrike">
                <a:solidFill>
                  <a:srgbClr val="ffffff"/>
                </a:solidFill>
                <a:latin typeface="Geneva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g. 13.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5827680" y="1788840"/>
            <a:ext cx="3316320" cy="1257480"/>
            <a:chOff x="5827680" y="1788840"/>
            <a:chExt cx="3316320" cy="1257480"/>
          </a:xfrm>
        </p:grpSpPr>
        <p:sp>
          <p:nvSpPr>
            <p:cNvPr id="66" name="Line 5"/>
            <p:cNvSpPr/>
            <p:nvPr/>
          </p:nvSpPr>
          <p:spPr>
            <a:xfrm>
              <a:off x="6323040" y="1890720"/>
              <a:ext cx="0" cy="1143000"/>
            </a:xfrm>
            <a:prstGeom prst="line">
              <a:avLst/>
            </a:prstGeom>
            <a:ln w="28440">
              <a:solidFill>
                <a:srgbClr val="f3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6081840" y="19033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827680" y="1890720"/>
              <a:ext cx="0" cy="11430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502320" y="1788840"/>
              <a:ext cx="264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nk of white light from sun as a mixture of R, G and 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4925520" y="2925360"/>
            <a:ext cx="4078800" cy="1080360"/>
            <a:chOff x="4925520" y="2925360"/>
            <a:chExt cx="4078800" cy="1080360"/>
          </a:xfrm>
        </p:grpSpPr>
        <p:sp>
          <p:nvSpPr>
            <p:cNvPr id="71" name="Line 10"/>
            <p:cNvSpPr/>
            <p:nvPr/>
          </p:nvSpPr>
          <p:spPr>
            <a:xfrm flipH="1">
              <a:off x="4925520" y="3274920"/>
              <a:ext cx="86364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5928480" y="3287880"/>
              <a:ext cx="863640" cy="2286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6864480" y="2925360"/>
              <a:ext cx="2139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lue is scattered the most so sky looks blue when we look away from the s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2"/>
          <p:cNvGrpSpPr/>
          <p:nvPr/>
        </p:nvGrpSpPr>
        <p:grpSpPr>
          <a:xfrm>
            <a:off x="6081840" y="3719520"/>
            <a:ext cx="241200" cy="1155600"/>
            <a:chOff x="6081840" y="3719520"/>
            <a:chExt cx="241200" cy="1155600"/>
          </a:xfrm>
        </p:grpSpPr>
        <p:sp>
          <p:nvSpPr>
            <p:cNvPr id="75" name="Line 13"/>
            <p:cNvSpPr/>
            <p:nvPr/>
          </p:nvSpPr>
          <p:spPr>
            <a:xfrm>
              <a:off x="6323040" y="3719520"/>
              <a:ext cx="0" cy="1143000"/>
            </a:xfrm>
            <a:prstGeom prst="line">
              <a:avLst/>
            </a:prstGeom>
            <a:ln w="28440">
              <a:solidFill>
                <a:srgbClr val="f3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6081840" y="37321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Text Box 15"/>
          <p:cNvSpPr/>
          <p:nvPr/>
        </p:nvSpPr>
        <p:spPr>
          <a:xfrm>
            <a:off x="6851520" y="4153320"/>
            <a:ext cx="214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same reason sun looks yellow (red + gre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4862520" y="4989600"/>
            <a:ext cx="1155600" cy="419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6323040" y="5268960"/>
            <a:ext cx="0" cy="1143000"/>
          </a:xfrm>
          <a:prstGeom prst="line">
            <a:avLst/>
          </a:prstGeom>
          <a:ln w="28440">
            <a:solidFill>
              <a:srgbClr val="f3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826320" y="5130720"/>
            <a:ext cx="21398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e atmosphere allows next shortest wavelengths (green) to scatter so sunset looks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1"/>
          <a:stretch/>
        </p:blipFill>
        <p:spPr>
          <a:xfrm>
            <a:off x="-7920" y="3665520"/>
            <a:ext cx="47894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yleigh scatte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1830240"/>
            <a:ext cx="4648320" cy="381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4703760" y="1757520"/>
            <a:ext cx="4141800" cy="860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5013360" y="4540320"/>
            <a:ext cx="3392280" cy="2317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4792680" y="3227400"/>
            <a:ext cx="433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ty inversely proportional to λ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waves with longer wavelength scatter 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0" y="6102360"/>
            <a:ext cx="48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ut why blue and not viole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blue and not viol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Group 13"/>
          <p:cNvGrpSpPr/>
          <p:nvPr/>
        </p:nvGrpSpPr>
        <p:grpSpPr>
          <a:xfrm>
            <a:off x="-61920" y="1492200"/>
            <a:ext cx="5094000" cy="4579920"/>
            <a:chOff x="-61920" y="1492200"/>
            <a:chExt cx="5094000" cy="4579920"/>
          </a:xfrm>
        </p:grpSpPr>
        <p:grpSp>
          <p:nvGrpSpPr>
            <p:cNvPr id="90" name="Group 5"/>
            <p:cNvGrpSpPr/>
            <p:nvPr/>
          </p:nvGrpSpPr>
          <p:grpSpPr>
            <a:xfrm>
              <a:off x="-61920" y="1492200"/>
              <a:ext cx="5094000" cy="4243320"/>
              <a:chOff x="-61920" y="1492200"/>
              <a:chExt cx="5094000" cy="4243320"/>
            </a:xfrm>
          </p:grpSpPr>
          <p:sp>
            <p:nvSpPr>
              <p:cNvPr id="91" name="Rectangle 6"/>
              <p:cNvSpPr/>
              <p:nvPr/>
            </p:nvSpPr>
            <p:spPr>
              <a:xfrm>
                <a:off x="-38160" y="1492200"/>
                <a:ext cx="4748040" cy="10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Spectral </a:t>
                </a:r>
                <a:r>
                  <a:rPr b="0" i="1" lang="en-US" sz="3300" spc="-1" strike="noStrike">
                    <a:solidFill>
                      <a:srgbClr val="fafa00"/>
                    </a:solidFill>
                    <a:latin typeface="Times New Roman"/>
                  </a:rPr>
                  <a:t>response of cones</a:t>
                </a: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 </a:t>
                </a:r>
                <a:endParaRPr b="0" lang="en-US" sz="3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fafa00"/>
                    </a:solidFill>
                    <a:latin typeface="Times New Roman"/>
                  </a:rPr>
                  <a:t>in typical human eye</a:t>
                </a:r>
                <a:endParaRPr b="0" lang="en-US" sz="3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2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61520" y="2654280"/>
                <a:ext cx="4570560" cy="30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8"/>
              <p:cNvSpPr/>
              <p:nvPr/>
            </p:nvSpPr>
            <p:spPr>
              <a:xfrm rot="16234800">
                <a:off x="-802440" y="3813120"/>
                <a:ext cx="189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a00"/>
                    </a:solidFill>
                    <a:latin typeface="Times New Roman"/>
                  </a:rPr>
                  <a:t>relative respon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94" name="Picture 9" descr=""/>
            <p:cNvPicPr/>
            <p:nvPr/>
          </p:nvPicPr>
          <p:blipFill>
            <a:blip r:embed="rId2"/>
            <a:srcRect l="4232" t="37879" r="0" b="0"/>
            <a:stretch/>
          </p:blipFill>
          <p:spPr>
            <a:xfrm>
              <a:off x="617400" y="5675400"/>
              <a:ext cx="3879720" cy="3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Box 14"/>
          <p:cNvSpPr/>
          <p:nvPr/>
        </p:nvSpPr>
        <p:spPr>
          <a:xfrm>
            <a:off x="4619520" y="1687680"/>
            <a:ext cx="480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ur eye sensitivity to the blue color is much stronger than that to viole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930920" y="3570120"/>
            <a:ext cx="4286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e perceive the deep waters being of blue color for the same reas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"/>
          <p:cNvPicPr/>
          <p:nvPr/>
        </p:nvPicPr>
        <p:blipFill>
          <a:blip r:embed="rId1"/>
          <a:stretch/>
        </p:blipFill>
        <p:spPr>
          <a:xfrm>
            <a:off x="7670880" y="1033560"/>
            <a:ext cx="1473120" cy="1473120"/>
          </a:xfrm>
          <a:prstGeom prst="rect">
            <a:avLst/>
          </a:prstGeom>
          <a:ln w="0">
            <a:noFill/>
          </a:ln>
        </p:spPr>
      </p:pic>
      <p:sp>
        <p:nvSpPr>
          <p:cNvPr id="98" name="Donut 4"/>
          <p:cNvSpPr/>
          <p:nvPr/>
        </p:nvSpPr>
        <p:spPr>
          <a:xfrm>
            <a:off x="235080" y="4157640"/>
            <a:ext cx="2436840" cy="2700360"/>
          </a:xfrm>
          <a:prstGeom prst="pie">
            <a:avLst/>
          </a:prstGeom>
          <a:solidFill>
            <a:srgbClr val="bbe0e3"/>
          </a:solidFill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7"/>
          <p:cNvCxnSpPr/>
          <p:nvPr/>
        </p:nvCxnSpPr>
        <p:spPr>
          <a:xfrm flipH="1">
            <a:off x="2010600" y="2046960"/>
            <a:ext cx="6015960" cy="3174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00" name="Straight Arrow Connector 8"/>
          <p:cNvCxnSpPr/>
          <p:nvPr/>
        </p:nvCxnSpPr>
        <p:spPr>
          <a:xfrm flipH="1">
            <a:off x="1069200" y="2039760"/>
            <a:ext cx="6971400" cy="28281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01" name="TextBox 16"/>
          <p:cNvSpPr/>
          <p:nvPr/>
        </p:nvSpPr>
        <p:spPr>
          <a:xfrm>
            <a:off x="1104840" y="52452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696960" y="6151680"/>
            <a:ext cx="15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lor of Day-time sun vs. Suns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737240" y="1955880"/>
            <a:ext cx="18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ys from Sun (not scatter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2" descr=""/>
          <p:cNvPicPr/>
          <p:nvPr/>
        </p:nvPicPr>
        <p:blipFill>
          <a:blip r:embed="rId2"/>
          <a:stretch/>
        </p:blipFill>
        <p:spPr>
          <a:xfrm>
            <a:off x="4873680" y="3683160"/>
            <a:ext cx="427032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9"/>
          <p:cNvGrpSpPr/>
          <p:nvPr/>
        </p:nvGrpSpPr>
        <p:grpSpPr>
          <a:xfrm>
            <a:off x="0" y="1824120"/>
            <a:ext cx="3600360" cy="3005280"/>
            <a:chOff x="0" y="1824120"/>
            <a:chExt cx="3600360" cy="3005280"/>
          </a:xfrm>
        </p:grpSpPr>
        <p:pic>
          <p:nvPicPr>
            <p:cNvPr id="107" name="Picture 26" descr=""/>
            <p:cNvPicPr/>
            <p:nvPr/>
          </p:nvPicPr>
          <p:blipFill>
            <a:blip r:embed="rId3"/>
            <a:stretch/>
          </p:blipFill>
          <p:spPr>
            <a:xfrm>
              <a:off x="0" y="1824120"/>
              <a:ext cx="3600360" cy="1906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8" name="Straight Arrow Connector 28"/>
            <p:cNvCxnSpPr/>
            <p:nvPr/>
          </p:nvCxnSpPr>
          <p:spPr>
            <a:xfrm>
              <a:off x="490680" y="3730320"/>
              <a:ext cx="640800" cy="1099440"/>
            </a:xfrm>
            <a:prstGeom prst="straightConnector1">
              <a:avLst/>
            </a:prstGeom>
            <a:ln w="50760">
              <a:solidFill>
                <a:srgbClr val="f30000"/>
              </a:solidFill>
              <a:prstDash val="lgDash"/>
              <a:miter/>
              <a:tailEnd len="med" type="arrow" w="med"/>
            </a:ln>
          </p:spPr>
        </p:cxnSp>
      </p:grpSp>
      <p:grpSp>
        <p:nvGrpSpPr>
          <p:cNvPr id="109" name="Group 37"/>
          <p:cNvGrpSpPr/>
          <p:nvPr/>
        </p:nvGrpSpPr>
        <p:grpSpPr>
          <a:xfrm>
            <a:off x="2069640" y="5027760"/>
            <a:ext cx="2737440" cy="1824120"/>
            <a:chOff x="2069640" y="5027760"/>
            <a:chExt cx="2737440" cy="1824120"/>
          </a:xfrm>
        </p:grpSpPr>
        <p:grpSp>
          <p:nvGrpSpPr>
            <p:cNvPr id="110" name="Group 35"/>
            <p:cNvGrpSpPr/>
            <p:nvPr/>
          </p:nvGrpSpPr>
          <p:grpSpPr>
            <a:xfrm>
              <a:off x="2069640" y="5027760"/>
              <a:ext cx="2711520" cy="1487160"/>
              <a:chOff x="2069640" y="5027760"/>
              <a:chExt cx="2711520" cy="1487160"/>
            </a:xfrm>
          </p:grpSpPr>
          <p:pic>
            <p:nvPicPr>
              <p:cNvPr id="111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2799000" y="5027760"/>
                <a:ext cx="1982160" cy="14871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12" name="Straight Arrow Connector 32"/>
              <p:cNvCxnSpPr/>
              <p:nvPr/>
            </p:nvCxnSpPr>
            <p:spPr>
              <a:xfrm flipH="1" flipV="1">
                <a:off x="2069640" y="5302080"/>
                <a:ext cx="717840" cy="94680"/>
              </a:xfrm>
              <a:prstGeom prst="straightConnector1">
                <a:avLst/>
              </a:prstGeom>
              <a:ln w="50760">
                <a:solidFill>
                  <a:srgbClr val="f30000"/>
                </a:solidFill>
                <a:prstDash val="lgDash"/>
                <a:miter/>
                <a:tailEnd len="med" type="arrow" w="med"/>
              </a:ln>
            </p:spPr>
          </p:cxnSp>
        </p:grpSp>
        <p:sp>
          <p:nvSpPr>
            <p:cNvPr id="113" name="TextBox 36"/>
            <p:cNvSpPr/>
            <p:nvPr/>
          </p:nvSpPr>
          <p:spPr>
            <a:xfrm>
              <a:off x="2941920" y="6453000"/>
              <a:ext cx="186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White or yel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d Sun/sky during the Suns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2771640"/>
            <a:ext cx="4681440" cy="26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606920" y="2770200"/>
            <a:ext cx="4524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5:04:28Z</dcterms:created>
  <dc:creator>Martin Goldman</dc:creator>
  <dc:description/>
  <dc:language>en-US</dc:language>
  <cp:lastModifiedBy>MSU-IIT IDS</cp:lastModifiedBy>
  <cp:lastPrinted>2004-10-13T23:12:39Z</cp:lastPrinted>
  <dcterms:modified xsi:type="dcterms:W3CDTF">2011-02-07T18:23:18Z</dcterms:modified>
  <cp:revision>325</cp:revision>
  <dc:subject/>
  <dc:title>PowerPoint Presentation  -  Physics 1230:  Light and Color Chapter 1</dc:title>
</cp:coreProperties>
</file>